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13F-7A69-4CEA-8C6E-C9ECA4A4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B85-A359-47DD-9018-F53A2655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0F7-0468-4819-B45B-6698D8E4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38E-B805-4494-B188-DD59B0B5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9621-6AD4-40AF-8DA4-A37D190C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1361-F57A-4CCC-B128-52238080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A30C-6C42-451A-9D86-6D644C4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620C-428D-483C-B914-52E2C29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F05-0DC9-401F-9290-5B1511AB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96E8-F570-42DD-9D92-4F0906A7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D054-D6DE-4781-8751-60802E2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07E-CE6B-42D7-B9F2-808D6F9B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2673-F1FE-445E-8562-FDBFEE8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25F8-FA6F-4C9A-9C54-4627D50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4E4E-CD6F-442A-9876-BBF41D10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C309-72AF-407C-B3CB-163B778A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7A28-ED1E-47A3-B4B7-BBCD4850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30F-528E-4212-B96B-6A23369D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9B2-93E9-446E-A0FD-18A8D14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C61-03BC-4ABB-B883-18EAC96E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030-4269-479F-A79D-9F2F4D6C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1C1-33F0-4AA4-8512-32C66EE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D52-AD1D-4EA7-AD51-FE31D1B9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BE2-B57F-450F-AC1B-B367A502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6CCB-6244-4661-924C-250707B1131C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760B-69DB-4065-BEEF-613C94C66B9A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voir et êtr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000"/>
                </a:solidFill>
                <a:latin typeface="Verdana"/>
              </a:rPr>
              <a:t>On va les conquerir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juguez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876920" y="1981080"/>
          <a:ext cx="4114800" cy="2595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O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ha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’a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 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 av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 av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28600" y="1981080"/>
          <a:ext cx="4495680" cy="259560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Ê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su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 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 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 som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 ê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nd est-ce que j’utilise êt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n you’re describing a state of being, use êt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e suis fatigué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us sommes canadien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n you’re describing a person, use êt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ls sont grand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essions avec êt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u es d’accord avec moi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d’accord avec = to agree wit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ous êtes en train de faires vos devoi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en train de + INFINITIF = to be bus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ill est à l’heu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à l’heure = to be on t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me. Biega est en ava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en avance = to be ear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wson est en retar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en retard = to be l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5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5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5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5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5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5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5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5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5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essions avec avo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09800" y="1806120"/>
            <a:ext cx="7124400" cy="444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Il a quatorze an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# ans = to be # years o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La température est trente degrés. Vous avez chaud?/ C’est l’hiver. Nous avons froid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chaud/froid = to be hot/co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À 11h 30, j’ai faim./Mme., puis-j’aller boire de l’eau? J’ai soif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faim/soif = to be hungry/thirsty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J’ai peur des films d’horreu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peur = to be scare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Elle a raison./Il a tort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raison/tort = to be right/wrong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Nous avons sommeil les lundi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sommeil = to be sleepy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 négatif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*N’oubliez pas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fait un sandwich avec NE et PAS autour de la CONJUGAISON!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emple: Elle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on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ntelligente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 négatif: Elles N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on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AS intelligent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emple: L’aéroport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un bon restauran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 négatif: L’aéroport N’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AS un bon restauran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2:26:03Z</dcterms:created>
  <dc:creator>Biega, Sarah</dc:creator>
  <dc:description/>
  <dc:language>en-US</dc:language>
  <cp:lastModifiedBy>Biega, Sarah</cp:lastModifiedBy>
  <dcterms:modified xsi:type="dcterms:W3CDTF">2012-09-18T20:01:04Z</dcterms:modified>
  <cp:revision>4</cp:revision>
  <dc:subject/>
  <dc:title>Avoir et être</dc:title>
</cp:coreProperties>
</file>